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99A3-7BCE-47AD-868F-0396B674B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00F7-D992-40CC-B5C8-6FFF8488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596A-0449-4241-AD54-EE317BE2B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2CC3-F29B-482E-BD7C-33D4668B8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FA18-EE3B-4981-9008-37B5C7D92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EA9A-307D-4663-AD07-A3D97546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C1A0-3302-475B-B116-BC3AFB5B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2089-F11A-4055-8C0E-E5729679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8613-37EF-4113-AB58-664B26D9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B2B4-1F04-488E-900A-BE987FC8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503E-EAC1-4539-90A7-6E6A8980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0C02-C286-4B41-866A-4FDC7344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4304-5DA7-4CA5-8CA2-53F82172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DD37-609A-4E37-8C6B-88A02EC0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AA85-592C-4616-AB40-CB34CF57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1DD7-82E4-423A-9E27-94881883F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BD1E-3BDD-4721-ABC9-77CB12857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78457-C132-4EF5-BB06-CEB165C9C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059D5-26DB-417F-AEC8-32CA9F3C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ECB0F-087B-497A-BE36-55191672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702EB-C5E2-4C97-9D2F-5C38CF5D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9BA26-4366-4EA9-99C2-49EF86E0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31A1-4DD9-477E-9824-BBC93705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81B4A-89DB-4DD2-9FAD-31C56FF9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44CA2-EBC1-4A4D-A8C5-D6730375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DD92D-1D68-4AF4-BB21-2AD5B15D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45AAB-A040-4CDF-9042-11FFCC69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E3D38-FFE6-4EFA-8A31-6CAD7485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7EF62-877D-484B-A91F-9C41997B9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EB1F9-EDF8-4642-9390-FCADB7FD2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E69DF-4E73-4B38-9B4D-35E5130FF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440B2-0D96-4FCA-A68F-F9A4D45C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AF7B9-0761-480C-BBDC-AA2DD687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EC2E-BEDD-4E70-B7FE-18171540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611D1-D21E-43F3-95ED-896A1124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2A617-25CA-4310-8322-332A9778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FB7DD-5694-4EEB-9C7E-2044613B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0021E-0AAF-47D9-BA52-0EE5E68B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2ACF3-371C-41A1-9137-16674D70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775D9-7439-4292-95B4-5EFFD117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C0E0C-E3B3-4405-82A0-B2556273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AFCB9-86B7-47FA-B6A2-56940B881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34FD1-ED72-49E2-BE54-AF34F59E1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E1D3-D08F-4489-AE9C-D6CF8EE0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64EC-E30D-4D00-B782-3C175887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EE88-D965-4820-A026-F69A82FE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B6B7-69D6-4463-885E-72FFEA09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0B17-46E8-4883-A284-3293A14D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9A53-CEB1-425F-8792-F81B38F719F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0379-515C-487D-81CB-F83A817B073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9F4E-FF80-4636-9D5D-1865BA2802A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4BE3-D2FA-4713-973A-9FDCC32B1E0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201600" y="-60480"/>
            <a:ext cx="8570880" cy="32673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7788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r. Beverly J. Buckles, DSW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ean, School of Behavioral Health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hair and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-Chai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r. Kimberly R. Freeman, PhD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Associate Executive Chair  and Associate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embe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ique a los voluntarios por adelantad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¿A quién debería reclutar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nstantia"/>
              </a:rPr>
              <a:t>Idealmente a individuos con experiencia trabajando con niños de diferentes edad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nstantia"/>
              </a:rPr>
              <a:t>Voluntarios adultos masculinos que puedan asistir con asuntos de seguridad además de ayudar con los jovencitos mayor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ersonas dignas de confianza y emocionalmente establ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609480" y="1981080"/>
          <a:ext cx="7848720" cy="4267440"/>
        </p:xfrm>
        <a:graphic>
          <a:graphicData uri="http://schemas.openxmlformats.org/drawingml/2006/table">
            <a:tbl>
              <a:tblPr/>
              <a:tblGrid>
                <a:gridCol w="2975040"/>
                <a:gridCol w="1968480"/>
                <a:gridCol w="2905200"/>
              </a:tblGrid>
              <a:tr h="32868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Sugerencia para proporción de adulto/ni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# de Voluntarios Adul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#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Edades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Menos de 24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25 to 35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6 meses a 5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6 a 9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9 a 12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3 a 16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 gridSpan="3"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*2-3 Voluntarios adicionales para asistir con el monitoreo de seguridad y para ayudar a niños con necesidades especiales, comidas, et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3352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 van a haber niños quedándose a dormir en el centro de refugio por las noches, va a ser necesario que un voluntario adulto se encargue del turno de noch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Siempre y cuando </a:t>
            </a: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haya varios niños durmiendo en la misma habitación,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de</a:t>
            </a: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bería de haber un mínimo de dos voluntarios despiertos por la noche para proveer mejor seguridad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 hay niños durmiendo en varias habitaciones, se van a necesitar más voluntarios. Por ejemplo, debería de haber el mínimo de un voluntario despierto a toda hora en cada habitación donde hay niños durmiendo. Nota: Estos voluntarios son adicionales a los dos voluntarios encargados del turno de noch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Voluntarios—Necesidades Adicionales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rovea orientación sobre los reglamentos de seguridad del centro de refug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esarrolle un plan general de todo lo que se tiene que hacer en caso de emerg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individuos para que estén conscientes de su función como voluntar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Enfatice las necesidades de seguridad, además de las necesidades de protección de los niñ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Preparando a los 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reconocer y proveer por las necesidades básicas, físicas, y emocionales de los niñ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entrevistar a los padres de familia, con el propósito de recolectar información de contacto, además de datos básicos de cada niño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tratar con situaciones de angustia y conducta disruptiva, ya sea de padres y/o niño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Preparando a los 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gistro de niñ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Asista a los padres a llenar los formularios de datos (Ver ejemplar de Formulario de Asesoramiento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Apunte la información de contacto/emergencia de los padres de familia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Designe a alguien a tomar fotos (niños, padres de familia, parientes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Organice tablas de información familiar (cuando posible, una tabla por cada niño</a:t>
            </a:r>
            <a:r>
              <a:rPr b="0" lang="en-US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Saber quién puede visitar y recoger al niño del centr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Poner de muestra en un lugar visible para asegurar a los niños, además de facilitar su acceso a los voluntari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El centro de refugio en operación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nstantia"/>
              </a:rPr>
              <a:t>Guías generales para trabajar con niño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l niño puede estar aturdido, en estado de shock, o estar sintiendo algún nivel de falta de asociación que puede empeorar si no se le protege del estímulo que causó la experiencia traumá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onde posible, dirija a los niños a un lugar lejos del desastre y de personas que han sobrevivido pero que están lastimad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Use palabras bondadosas pero firmes para dar instruccion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Trabajando con los Niñ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Conéctarse con personas familiar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Conéctese con padres de familia y/o parientes en intervalos regular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Provea información correcta  sobre el estado de sus familias, en intervalos regulares, cuando el niño lo pid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Apoyar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Ofrezca apoyo, sea compasivo y bondados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Aprenda y use el nombre de los niños, especialmente cuando uno se dirige a ello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Use comunicación sin prejuicios, ya sea verbal o no verbalmente, con el niñ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No importa la duración de su estadía, el uso de herramientas terapéuticas le ayuda al niño a reconectar  y reducir el nivel de su angustia causado por su pérdid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Triaj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Observe las necesidades físicas y emocionales (ver los materiales de asesoramiento proveídos en la próxima sesión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Haga triaje con médicos y profesionales de salud ment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3" marL="1116000" indent="-196920">
              <a:spcBef>
                <a:spcPts val="3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En términos de local y de protocolo para visitas entre niños y profesionales, arreglos deberán hacerse por avanzado (eg., en el hospital o en un local de emergencia médica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Trabajando con los Niños—cont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3" descr=""/>
          <p:cNvPicPr/>
          <p:nvPr/>
        </p:nvPicPr>
        <p:blipFill>
          <a:blip r:embed="rId1"/>
          <a:stretch/>
        </p:blipFill>
        <p:spPr>
          <a:xfrm>
            <a:off x="523800" y="1311120"/>
            <a:ext cx="778500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Visión general: Creando un Ambiente Seguro para su Niño Después de un  Desast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2362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espués de un desastre todo niño necesita estar en un lugar seguro, lejos del peligro y de otras experiencias que le puedan causar más angust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Los padres y guardianes necesitan tener acceso a un lugar donde puedan dejar a sus niños mientras que ellos consiguen trabajo, encuentran vivienda segura, procuran comida, agua, 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ara poder desarrollar un ambiente seguro se requiere planificación, además de consideración de las necesidades de los niños después de un desastr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Estableciendo un medio ambiente seguro para sus niños requier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Protección- establecer una zona/ un centro de refugio segur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Dirección- guiar a otros a  áreas lejos del desast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Conexión- estar en contacto con padres y parientes en  intervalos regular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Apoyo- proveer un medio ambiente seguro  (</a:t>
            </a:r>
            <a:r>
              <a:rPr b="0" i="1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2da sesión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riaje- asesorar de manera general las necesidades físicas y emocionales, haciendo triaje con profesionales avanzados cuando apropiado (</a:t>
            </a:r>
            <a:r>
              <a:rPr b="0" i="1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2da sesión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Visión general: Creando un Ambiente Seguro para su Niño Después de un  Desast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752120"/>
            <a:ext cx="82296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a preparación es clave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 Conozca su com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 Considere cuántos locales se van a necesitar, eg., los suficientes para tratar a los niños de la com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 Trabaje con otras iglesias y grupos comunitarios para establecer un plan de cómo crear y tener listos centros de refugios múltip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roveen más acceso en los vecindarios (eg. la distancia entre vecindarios tomando en cuenta transporte limitad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ermiten el encuentro de grupos pequeños para niños del vecindari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roveen mas familiaridad que un local donde los niños no se conoc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Protección- establecer una zona/ un centro de refugio segur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dentificando sitios/locales alternativo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l local alternativo provee mejor preparación ya que uno nunca sabe cuándo va a suceder un desastr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Identifique diferentes locales comunitarios (Iglesias, escuelas, centros comunitario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Identifique aéreas abiertas donde centros de refugios temporarios puedan ser instalad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Localizando los mejores sitios para las Zonas de Seguridad para Niñ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22093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Visite cada local alternativ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xplore para determinar si existen problemas de segurida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vite locales donde se encuentre posible peligro (eg., zonas de construcción peligrosas, la exposición de toxinas, agua profunda, lugares donde se pueda caer un niño, animales, otros elementos peligrosos, etc.)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odos los sitios seleccionados tienen que tener manera de ser asegurados (eg., protección contra intrusos, individuos depredadores que buscan abusar o explotar a niños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odos los sitios deben ser accesibles (eg., proximidad a facilidades médicas y otros recursos, acceso a transporte público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Tenga un acuerdo por adelantado que detalle la disponibilidad del local en situaciones de emergenci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Localizando los mejores sitios para las Zonas de Seguridad para Niñ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088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Identifique una bodega para almacenar suministros (idealmente en el mismo local que va a ser utilizado como centro de refugio/zona de segurid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Suministros de emergencia (eg., agua, primeros auxilios, lámpara de mano, baterías, radio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omida/bocadillos (7-10 días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latos, vasos, cucharas, tenedores, toallas de papel, et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obij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aña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roductos de higiene personal para adolescentes (jabón de baño, cepillo de dientes, pasta de dientes, desodorante, higiene femenina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Lupa o lentes para niños con problemas de visió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Ropa (diferentes tamaño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Identificando y asegurando suministros por avanzado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Útiles escolares (papel, lápices, plumas, tiza, colores para pintar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Juguetes (considere darle a cada niño su propio juguete cuando lleguen al centro de refugio—un juguete que se puedan llevar cuando se vayan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Juegos de mesa (para diferentes edades, incluyendo adolescen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Materiales de arte (papel, pinturas de agua, pinceles, tijeras, pegamento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Libros (para diferentes edades, incluyendo adolescen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roductos de limpieza (jabón, detergent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ámara (la habilidad de crear y mostrar fotos instantáneas de los niños y sus famili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Teléfono (considere otros medios de contacto que no requieran el uso de electricidad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Suministros cont.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labore reglamentos para el centro de refugi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Ejemplos de pauta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Nadie, con la excepción del adulto designado/aprobado, es permitido llevarse al niño del centro de refug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Solamente los individuos con acceso autorizado son permitidos en la Zona de Seguridad para Niñ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padres de familia tienen que llenar formularios de datos antes de dejar a sus niños en el centro de refug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Ambos, los padres de familia y sus niños tienen que tomarse fotos al registrars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voluntarios tienen que estar pendientes de los niños bajo su cargo en todo moment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a comunicación debe ser positiva y debe reducir conflicto y angustia, en todo momento, entre padres de familia, niños, y voluntari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padres de familia y parientes aprobados deben registrarse en el centro de refugio antes de poder entrar a proveerle asistencia y comodidad a sus niñ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Lineamientos/Reglament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2T01:37:54Z</dcterms:created>
  <dc:creator>Carol</dc:creator>
  <dc:description/>
  <dc:language>en-US</dc:language>
  <cp:lastModifiedBy>Jeminaeh</cp:lastModifiedBy>
  <dcterms:modified xsi:type="dcterms:W3CDTF">2012-07-10T03:46:38Z</dcterms:modified>
  <cp:revision>69</cp:revision>
  <dc:subject/>
  <dc:title>Creating Child Safe Environments After a Disaster</dc:title>
</cp:coreProperties>
</file>