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5568-4EE7-45B5-A8E5-B34D53A43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BF0C-59CC-4D1A-9E23-5861B30BE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BA6B-E563-418A-BC4D-C8DFEC7C0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99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724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99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724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C318-DA2C-40CA-984E-5B55CC8F2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B6E48-0181-4202-B766-EB4B8DF6C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B0A5D-A36D-4A9C-BFF8-34CEB2546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EF868-BF3B-4B7D-8E17-18B59C5C4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49F8C-7518-4F44-B985-F1D6F4CC8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DED51-EFFE-4A26-AEAA-6AFF69A32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D3D92-5C45-4DA3-BD7B-83B508ECD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F10E5-33BB-481D-822C-5F28A61A0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4522-2CD1-4F72-A632-4D5F2A85F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32673-31FF-4B91-B0F3-2FFCA5B1F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9F26E-F3BF-4E2F-9171-A8A64ABCE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F6CAC-B991-415F-971A-4F4BC3FC3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A5E36-574A-4448-9340-E7EE44E29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99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724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99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2724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643BC-2217-428F-9EDA-599BD7761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8633-5D57-4AC2-A243-BBE1A4399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F6F2-6229-4B13-842F-B5A85AFCD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2ADE-9EBF-436E-92E3-DFC19C89E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D683-12BA-409B-8195-AEF6AC2AC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CC48-526B-42A7-B191-8732844C9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B6AE-770E-47CC-8C1A-C9B2C89FA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05A9-AD64-4F0D-9FFB-BE098BE9E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89612-049F-4F91-9518-77839388532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DB148-DBA4-4CC8-BBB3-EDB748F0996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 rot="19542000">
            <a:off x="0" y="25146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Impact"/>
              </a:rPr>
              <a:t>Evangelizando</a:t>
            </a:r>
            <a:endParaRPr b="0" lang="en-US" sz="48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83" name="Picture 5" descr="Copy of Chile Union ChM Advisory 133"/>
          <p:cNvPicPr/>
          <p:nvPr/>
        </p:nvPicPr>
        <p:blipFill>
          <a:blip r:embed="rId1"/>
          <a:stretch/>
        </p:blipFill>
        <p:spPr>
          <a:xfrm>
            <a:off x="4716360" y="0"/>
            <a:ext cx="1752840" cy="1170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children of the world"/>
          <p:cNvPicPr/>
          <p:nvPr/>
        </p:nvPicPr>
        <p:blipFill>
          <a:blip r:embed="rId2"/>
          <a:stretch/>
        </p:blipFill>
        <p:spPr>
          <a:xfrm rot="19542000">
            <a:off x="2000160" y="3259080"/>
            <a:ext cx="5867640" cy="696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C:\Users\FerreyraMe\Documents\diseños PP\LOGOS_ADVENTISTAS\LOGOS_DEPTO\MINISTÉRIO_CRIANÇA\logo_Trab_esp.jpg"/>
          <p:cNvPicPr/>
          <p:nvPr/>
        </p:nvPicPr>
        <p:blipFill>
          <a:blip r:embed="rId3"/>
          <a:stretch/>
        </p:blipFill>
        <p:spPr>
          <a:xfrm>
            <a:off x="34920" y="-27000"/>
            <a:ext cx="4681440" cy="1197000"/>
          </a:xfrm>
          <a:prstGeom prst="rect">
            <a:avLst/>
          </a:prstGeom>
          <a:ln w="0">
            <a:noFill/>
          </a:ln>
        </p:spPr>
      </p:pic>
      <p:sp>
        <p:nvSpPr>
          <p:cNvPr id="86" name="TextBox 8"/>
          <p:cNvSpPr/>
          <p:nvPr/>
        </p:nvSpPr>
        <p:spPr>
          <a:xfrm>
            <a:off x="7872840" y="6397560"/>
            <a:ext cx="1221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700" spc="-1" strike="noStrike">
                <a:solidFill>
                  <a:srgbClr val="000000"/>
                </a:solidFill>
                <a:latin typeface="Arial"/>
              </a:rPr>
              <a:t>M. Ferreyr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700" spc="-1" strike="noStrike">
                <a:solidFill>
                  <a:srgbClr val="000000"/>
                </a:solidFill>
                <a:latin typeface="Arial"/>
              </a:rPr>
              <a:t>Ministerio Personal - DI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700" spc="-1" strike="noStrike">
                <a:solidFill>
                  <a:srgbClr val="000000"/>
                </a:solidFill>
                <a:latin typeface="Arial"/>
              </a:rPr>
              <a:t>MP-EI 00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  <p:pic>
        <p:nvPicPr>
          <p:cNvPr id="125" name="9 - Cooperación.wmv" descr=""/>
          <p:cNvPicPr/>
          <p:nvPr/>
        </p:nvPicPr>
        <p:blipFill>
          <a:blip r:embed="rId3"/>
          <a:stretch/>
        </p:blipFill>
        <p:spPr>
          <a:xfrm>
            <a:off x="1547640" y="90792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02" dur="indefinite" restart="never" nodeType="tmRoot">
          <p:childTnLst>
            <p:seq>
              <p:cTn id="103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104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7" dur="1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  <p:pic>
        <p:nvPicPr>
          <p:cNvPr id="130" name="10 - Da una Sonrisa.wmv" descr=""/>
          <p:cNvPicPr/>
          <p:nvPr/>
        </p:nvPicPr>
        <p:blipFill>
          <a:blip r:embed="rId3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08" dur="indefinite" restart="never" nodeType="tmRoot">
          <p:childTnLst>
            <p:seq>
              <p:cTn id="109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110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3" dur="1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22228b"/>
                </a:solidFill>
                <a:latin typeface="Arial"/>
              </a:rPr>
              <a:t>Requisito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Tener un equipo de 2 a 6 personas capacitada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Buscar un loca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Planear, organizar, preparar bien el programa para la campañ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Hacer una buena promoción</a:t>
            </a:r>
            <a:r>
              <a:rPr b="1" lang="es-PE" sz="3200" spc="-1" strike="noStrike">
                <a:solidFill>
                  <a:srgbClr val="0d0d0d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22228b"/>
                </a:solidFill>
                <a:latin typeface="Arial"/>
              </a:rPr>
              <a:t>Método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Todo visualizado o ilustrad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Participación plena y continu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Tomar en cuenta la regla 1 x 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Variedad, novedad, agilida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Método directo e indirecto, cambiar apropiadament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Uso de los cinco sentido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22228b"/>
                </a:solidFill>
                <a:latin typeface="Arial"/>
              </a:rPr>
              <a:t>Método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7.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Póngale un nombre a la campañ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8.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Mucha oració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9.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Escoger el tema central y enfatizar cada día ese tem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10.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Decidir la extensión del program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11.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Haga un programa Cristo céntrico y               Niño céntric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 – La Clave Secreta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2228b"/>
                </a:solidFill>
                <a:latin typeface="Arial"/>
              </a:rPr>
              <a:t>Modelo – Temari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l libro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 la Honradez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 la cortesía.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l servicio.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 la Abnegación.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 la verdad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J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l Perdón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V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 la obediencia.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- Carta de Dios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2228b"/>
                </a:solidFill>
                <a:latin typeface="Arial"/>
              </a:rPr>
              <a:t>Modelo-Fin de sema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Este modelo lo puede usar en coordinación con la escuela e invitar a los padres de familia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Historia del libro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J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Conociendo al Autor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V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Carta de Dios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2228b"/>
                </a:solidFill>
                <a:latin typeface="Arial"/>
              </a:rPr>
              <a:t>Modelo-Musica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Escoja un canto y sobre el maneje el temario para la semana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Ejemplo 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Ejemplo 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1600" spc="-1" strike="noStrike">
                <a:solidFill>
                  <a:srgbClr val="606060"/>
                </a:solidFill>
                <a:latin typeface="Arial"/>
              </a:rPr>
              <a:t>Trabajo en grupos….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606060"/>
                </a:solidFill>
                <a:latin typeface="Arial"/>
              </a:rPr>
              <a:t>	</a:t>
            </a:r>
            <a:r>
              <a:rPr b="1" lang="es-PE" sz="1600" spc="-1" strike="noStrike">
                <a:solidFill>
                  <a:srgbClr val="606060"/>
                </a:solidFill>
                <a:latin typeface="Arial"/>
              </a:rPr>
              <a:t>Prepare un temario basado en el canto que acaba de escucha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  <p:pic>
        <p:nvPicPr>
          <p:cNvPr id="111" name="LA SEMANA.mp3" descr=""/>
          <p:cNvPicPr/>
          <p:nvPr/>
        </p:nvPicPr>
        <p:blipFill>
          <a:blip r:embed="rId3"/>
          <a:stretch/>
        </p:blipFill>
        <p:spPr>
          <a:xfrm>
            <a:off x="4859280" y="2349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2" name="gozo_culto_joe.mp3" descr=""/>
          <p:cNvPicPr/>
          <p:nvPr/>
        </p:nvPicPr>
        <p:blipFill>
          <a:blip r:embed="rId4"/>
          <a:stretch/>
        </p:blipFill>
        <p:spPr>
          <a:xfrm>
            <a:off x="4859280" y="2852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141015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98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1" dur="195156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2228b"/>
                </a:solidFill>
                <a:latin typeface="Arial"/>
              </a:rPr>
              <a:t>Nuevas iniciativ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626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Discipulado infanti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626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Dentro de la Iglesi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Poemas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Orquesta infanti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Rimas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Juego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Ofrendas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Modelito bíblico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Cantos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Predican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Adivinanzas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March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2228b"/>
                </a:solidFill>
                <a:latin typeface="Arial"/>
              </a:rPr>
              <a:t>Nuevas iniciativ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626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Discipulado infantil fuera de la Iglesi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Campaña de salu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Campaña de limpiez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Visita a un asil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606060"/>
                </a:solidFill>
                <a:latin typeface="Arial"/>
              </a:rPr>
              <a:t>La idea es que los niños participen de cualquier actividad que tenga que ver con la testificación y para que pierdan el miedo a la gente, hacerlos mas sociabl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5T13:46:03Z</dcterms:created>
  <dc:creator>Melchor Ferreyra</dc:creator>
  <dc:description/>
  <dc:language>en-US</dc:language>
  <cp:lastModifiedBy>Melchor Ferreyra</cp:lastModifiedBy>
  <dcterms:modified xsi:type="dcterms:W3CDTF">2012-06-30T02:56:07Z</dcterms:modified>
  <cp:revision>3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900251033</vt:lpwstr>
  </property>
</Properties>
</file>